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C2E3-11EF-44FE-8005-323B1C147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FB91-0B65-4F95-9BB4-020C7079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93B-C3A4-4714-A178-77ADB2BC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CE3-7884-4C66-B2F7-96ADD2DA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72E-DEA4-497C-B059-F6B1926A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ABE-F486-458E-94AA-DEE1399E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CE0-FE5F-46CB-BF1C-D7715016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55F-1A27-4D7E-A9AD-70BA089F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3D3-B2D8-4A8E-9DAC-AEBCE3B9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BD5-695F-483C-B722-CB2BCE27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BF4-CF84-44D8-9043-BD5835C0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42B-BE9A-4E37-8A30-55CD17CE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55F-5243-4029-9855-9877692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A7B-911C-4487-A8DB-F322245D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B4CA-F1D1-47C2-A727-96D0951E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5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smal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s nearly all power with a cent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as rejected by the writers of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become more common in recen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acticed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5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smal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s nearly all political power with a cent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as rejected by the writers of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as become more common in recen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acticed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6 In the United States, congressional district boundaries are usually dra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n independent non-partis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Electio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te legisl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United States 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6 In the United States, congressional district boundaries are usually dra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n independent non-partis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Electio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United States 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7 The United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rrently has nearly 300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founded in 193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so far been less effective tha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had substantial success with peac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laces nearly all power in the han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N. Secretary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7 The United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rrently has nearly 300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founded in 193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so far been less effective tha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as had substantial success with peace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eping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laces nearly all power in the han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N. Secretary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8 At the end of the Cold War, several new countries emerg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8 At the end of the Cold War, several new countries emerg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9 This group predominates in the far north of Iraq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n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u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Ku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rs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9 This group predominates in the far north of Iraq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n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u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Ku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rs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1 Which country controlled the most colonial territory in 19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8_15"/>
          <p:cNvPicPr/>
          <p:nvPr/>
        </p:nvPicPr>
        <p:blipFill>
          <a:blip r:embed="rId1"/>
          <a:stretch/>
        </p:blipFill>
        <p:spPr>
          <a:xfrm>
            <a:off x="0" y="34596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10 United States’ hostility toward Iran bega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1953 overthrow of a democratic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1979 Islamic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1980-1988 war with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’s refusal to support the Americ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sion of Iraq in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n’s desire to develop nuclear energ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wenty-fir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10 United States’ hostility toward Iran bega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1953 overthrow of a democratic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The 1979 Islamic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1980-1988 war with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’s refusal to support the Americ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sion of Iraq in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n’s desire to develop nuclear energ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wenty-fir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1 Which country controlled the most colonial territory in 19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2 From a shape perspective, Chile can best be described a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orup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a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longa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gmen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iz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2 From a shape perspective, Chile can best be described a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orup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a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longa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gmen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iz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3 The largest number of landlocked states are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3 The largest number of landlocked states are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Af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 Libya and Egypt are separated by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ser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iver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untain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igious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bound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 Libya and Egypt are separated by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Deser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iver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untain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igious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bound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06:47Z</dcterms:modified>
  <cp:revision>89</cp:revision>
  <dc:subject/>
  <dc:title>CRS Chapter 4</dc:title>
</cp:coreProperties>
</file>